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8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3B1-051B-4CDD-A2AA-A7A73101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E29-6C22-42A9-9E05-48E9298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BE7-3B8D-4335-A4FF-D31C863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232-6A1D-44F3-9586-8595129D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17B-B2A1-4225-9AE1-701DCE7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716-AC61-4579-A0DB-63CE22BC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1D2-23DD-4A7F-826A-1E0E589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229-7F20-41B5-BC98-A70A0408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2C8-294A-47C6-BB10-88C2E29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B3C-0474-472E-ACBE-A37DCFD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5D4-7153-4BA5-8CDB-6DD6E20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72B-2FBE-406A-9CF9-A308A6F4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9EB-9BD8-426F-9CF7-D5CCFE06F3D4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500F-F7D6-4C38-BE3E-1679C8FD83A8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harge Transfer Multiplet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ntroduction: Why Charge transfer and Multiple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1: ATOMIC MULTIPLETS (9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2: CRYSTAL FIELD EFFECTS (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3: CHARGE TRANSFER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3-14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4: X-MCD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5-16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5: PHOTOEMISSION AND AUGER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5-16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6: X-RAY EMISSION AND RIX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15-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52320" y="1905120"/>
            <a:ext cx="9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858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oxide: Ground state: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286000"/>
            <a:ext cx="16761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59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9000" y="502920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148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11480" y="25146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724280"/>
            <a:ext cx="1371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16400" y="27432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876920"/>
            <a:ext cx="0" cy="76176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11680" y="3886200"/>
            <a:ext cx="1246320" cy="1828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468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14600"/>
            <a:ext cx="1295640" cy="2133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571500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4600" y="3886200"/>
            <a:ext cx="79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5715000"/>
            <a:ext cx="236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86000"/>
            <a:ext cx="2438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038480"/>
            <a:ext cx="0" cy="16002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14600" y="2666880"/>
            <a:ext cx="1447920" cy="297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0040" y="4419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438280" y="38862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32960" y="487692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Groun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09480"/>
            <a:ext cx="5430960" cy="5867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410080" y="762120"/>
            <a:ext cx="37339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shape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 Multiplet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 Charge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905120"/>
            <a:ext cx="228600" cy="15228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74680" y="5105520"/>
            <a:ext cx="21636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7, 529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257800"/>
            <a:ext cx="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981080"/>
            <a:ext cx="228600" cy="15264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47680" y="609480"/>
            <a:ext cx="8896320" cy="3514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54100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shape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 Multiplet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 Charge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7200" y="4191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Energy (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1280" y="106668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B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91680" y="1066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4191120"/>
            <a:ext cx="685800" cy="380880"/>
          </a:xfrm>
          <a:custGeom>
            <a:avLst/>
            <a:gdLst>
              <a:gd name="textAreaLeft" fmla="*/ 119880 w 685800"/>
              <a:gd name="textAreaRight" fmla="*/ 497160 w 6858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191120"/>
            <a:ext cx="6094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04840" y="5562720"/>
            <a:ext cx="21636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7, 529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3760" y="1676520"/>
            <a:ext cx="3352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gle Electron Excita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EN, FEFF, 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Many Body Excitation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Other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33760" y="914040"/>
            <a:ext cx="3809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gle Electron 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cita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 main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EN, FEFF,  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Many Body </a:t>
            </a:r>
            <a:br>
              <a:rPr sz="2800"/>
            </a:br>
            <a:r>
              <a:rPr b="0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Excitation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Other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K pre-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16240"/>
            <a:ext cx="4987800" cy="5648040"/>
          </a:xfrm>
          <a:prstGeom prst="ellipse">
            <a:avLst/>
          </a:prstGeom>
          <a:solidFill>
            <a:srgbClr val="cbcbcb"/>
          </a:solidFill>
          <a:ln cap="sq"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Unified Interpreta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9144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1: ATOMIC MULTI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3d and 4d XAS of La</a:t>
            </a:r>
            <a:r>
              <a:rPr b="0" lang="en-GB" sz="28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+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XAS described with Atomic Multi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2p XAS of TiO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Atomic multiplet ground states of 3d</a:t>
            </a:r>
            <a:r>
              <a:rPr b="0" lang="en-GB" sz="28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n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TM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958680"/>
            <a:ext cx="9144000" cy="58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ff"/>
                </a:solidFill>
                <a:latin typeface="Arial"/>
              </a:rPr>
              <a:t>2S+1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 Azimuthal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= |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|, …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l=2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L=0,1,2,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 Spin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= |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|, …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s=1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S=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L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L, L+1, …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2,1,0,-1,-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spin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S, S+1,…, 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/2, -1/2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(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958680"/>
            <a:ext cx="91440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2S+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J Spin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= |L-S|, |L-S+1|, …, L+S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j=3/2,5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j=0,1,2,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all combinations of L+S are poss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J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total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J, J+1, …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5/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5/2,3/2,1/2,-1/2,-3/2,-5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(LSJ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781680" y="2895480"/>
            <a:ext cx="17528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43000"/>
          <a:ext cx="6095880" cy="10951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" y="2971800"/>
          <a:ext cx="609588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" y="4572000"/>
          <a:ext cx="609588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858000" y="4572000"/>
            <a:ext cx="1752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figurations of 2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7621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57200" y="9144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09480" y="10666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762120" y="12193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14400" y="13716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066680" y="15238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219320" y="16765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371600" y="18288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23880" y="19810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676520" y="21337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828800" y="22860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981080" y="24382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105520" y="2971800"/>
          <a:ext cx="3657600" cy="10951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105520" y="41911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105520" y="54100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57240"/>
          <a:ext cx="845820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240"/>
                    <a:ext cx="84582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72200" y="5997600"/>
            <a:ext cx="29718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Hocking et al.  (JACS, 128, 104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harge Transfer Multiplet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51600" y="4267080"/>
            <a:ext cx="517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S term symbols: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,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,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SJ term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838080"/>
          <a:ext cx="4876560" cy="3286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1ff81"/>
                        </a:gs>
                        <a:gs pos="100000">
                          <a:srgbClr val="ff9b9b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b9b"/>
                        </a:gs>
                        <a:gs pos="50000">
                          <a:srgbClr val="0000ff"/>
                        </a:gs>
                        <a:gs pos="100000">
                          <a:srgbClr val="ff9b9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1ff81"/>
                        </a:gs>
                        <a:gs pos="100000">
                          <a:srgbClr val="ff9b9b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of 2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34920" y="5638680"/>
            <a:ext cx="4331160" cy="787320"/>
          </a:xfrm>
          <a:prstGeom prst="rect">
            <a:avLst/>
          </a:prstGeom>
          <a:solidFill>
            <a:srgbClr val="81ff81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0 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2 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0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14400"/>
            <a:ext cx="913752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ermine term symbols of all partly filled sh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ultiply term symbols of different sh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D gives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1,3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,D,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=1/2, 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=1/2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&gt;&gt; S=0 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L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= 1, L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= 2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&gt;&gt; L=3 or 2 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685800" y="609480"/>
            <a:ext cx="9829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ermine term symbol of groun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J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if shell is more than half-ful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has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3/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ground state           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: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has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ground state           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: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und’s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14400"/>
            <a:ext cx="9137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La in La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can be described as L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Verdana"/>
              </a:rPr>
              <a:t>3+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nd state is 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ipole transition 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3d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9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nd state symmetry: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inal state symmetry: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nd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14400"/>
            <a:ext cx="91375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inal state symmetries: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 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nd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ition &lt;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|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J=+1|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3 peaks in th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85800"/>
            <a:ext cx="9144000" cy="5753160"/>
            <a:chOff x="0" y="685800"/>
            <a:chExt cx="9144000" cy="5753160"/>
          </a:xfrm>
        </p:grpSpPr>
        <p:sp>
          <p:nvSpPr>
            <p:cNvPr id="252" name=""/>
            <p:cNvSpPr/>
            <p:nvPr/>
          </p:nvSpPr>
          <p:spPr>
            <a:xfrm>
              <a:off x="0" y="685800"/>
              <a:ext cx="9144000" cy="57531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8640" y="120852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r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" y="521856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p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5040" y="1208520"/>
              <a:ext cx="219456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or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8960" y="1208520"/>
              <a:ext cx="2560320" cy="697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g2 als2la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389120" y="1905840"/>
              <a:ext cx="1645920" cy="31381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8960" y="5218560"/>
              <a:ext cx="2560320" cy="697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plo2 als2la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35040" y="521856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676520"/>
            <a:ext cx="1120140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10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 9  F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10 4F00     1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09 4F01     8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841.4990    6.7992    0.0922    7.0633    3.167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.7234    2.7614    1.90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10 4F00      Dy3+ 3D09 4F01        -0.24802( 3D//R1// 4F) 1.000HR  34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un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rcg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with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cg2 als2l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676520"/>
            <a:ext cx="1341108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. OF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J     JP     J-JP   TOTAL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KLAM    I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.0   1.0       3       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3000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                                                 ELEC DIP SPECTRUM     (ENERGIES IN UNITS OF  8065.5 CM-1 =    1.00 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DY3+ 3D10 4F00       ---      DY3+ 3D09 4F0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E      J   CONF              EP      JP  CONFP       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 E   LAMBDA(A)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/PMAX**2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GF    LOG GF GA(SEC-1) CF,BR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</a:t>
            </a:r>
            <a:r>
              <a:rPr b="0" lang="en-GB" sz="18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0.0000  0.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1 </a:t>
            </a:r>
            <a:r>
              <a:rPr b="0" lang="en-GB" sz="18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(1S) 1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833.2133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3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33.2133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8804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.0069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0.0087  -2.062 2.611E+11 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0.0000  0.0  1 (1S) 1S      837.4330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3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37.433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8054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.8048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1.0157   0.007 3.091E+13 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0.0000  0.0  1 (1S) 1S      854.0414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1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54.0414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5175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1.18829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1.5294   0.185 4.840E+13  1.00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676520"/>
            <a:ext cx="1341108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script la3.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rtrai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ergy_range 830 86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olumns_per_p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ows_per_p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La 3d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2 999. range 0 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4 9.   range 845 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gaussian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cg9 la3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67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re Level Spectrosco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6553080" cy="6397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7280" y="5873760"/>
            <a:ext cx="3524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ol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32, 5107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3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-685800" y="18288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II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on in Nd met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 4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 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4f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97280" y="5873760"/>
            <a:ext cx="3524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ol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32, 5107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762120" y="1143000"/>
            <a:ext cx="99061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symmetry: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wo possible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09480"/>
            <a:ext cx="9144000" cy="5715000"/>
          </a:xfrm>
          <a:prstGeom prst="rect">
            <a:avLst/>
          </a:prstGeom>
          <a:solidFill>
            <a:srgbClr val="eaeaea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360" y="320688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r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9360" y="511164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5760" y="320688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08240" y="3206880"/>
            <a:ext cx="2560680" cy="6937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cg2 als3ti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11640"/>
            <a:ext cx="2560680" cy="6937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plo2 als3ti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35760" y="511164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9360" y="1128600"/>
            <a:ext cx="7680240" cy="1847880"/>
            <a:chOff x="549360" y="1128600"/>
            <a:chExt cx="7680240" cy="1847880"/>
          </a:xfrm>
        </p:grpSpPr>
        <p:sp>
          <p:nvSpPr>
            <p:cNvPr id="298" name=""/>
            <p:cNvSpPr/>
            <p:nvPr/>
          </p:nvSpPr>
          <p:spPr>
            <a:xfrm>
              <a:off x="549360" y="1128600"/>
              <a:ext cx="2011320" cy="6937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35760" y="1128600"/>
              <a:ext cx="2193840" cy="6937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8240" y="1128600"/>
              <a:ext cx="2560680" cy="69372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n2 als3ti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0760" y="1936800"/>
              <a:ext cx="0" cy="3477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584360" y="2284560"/>
              <a:ext cx="54864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4360" y="2284560"/>
              <a:ext cx="0" cy="691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3160" y="2284560"/>
              <a:ext cx="2012760" cy="69192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e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676520"/>
            <a:ext cx="1333512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 0.0 0.50 0.0  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Ti4+ 2p06 3d00     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P06 3D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Ti4+ 2p05 3d01     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P05 3D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52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un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.rcn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with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n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2 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give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als3ti4.r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Only 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276360" y="2438280"/>
            <a:ext cx="1447560" cy="26672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9 to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to print out the energy matrix and eigen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ll final state interaction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0.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to 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(all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76520"/>
            <a:ext cx="13335120" cy="2040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1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D  1   464.811    0.000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P  2     0.000  464.811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0.000    0.000  464.8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267080"/>
            <a:ext cx="13335120" cy="2040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D  1   1.00000  0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P  2   0.00000  1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0.00000  0.00000  1.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67480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7200" y="4800600"/>
                <a:ext cx="822960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A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143000" y="609480"/>
            <a:ext cx="3429000" cy="3821760"/>
          </a:xfrm>
          <a:prstGeom prst="rect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xcitations of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re electrons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o empty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XAS spectrum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 given by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ermi Golde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2p spin-orbit coupling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.776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back to 3.7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b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5.755    1.635    2.3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1.635  463.867    1.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2.312    1.335  464.8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1P  (2P) 3P  (2P) 3D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-0.67098  0.22312 -0.70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0.12977 -0.90360 -0.408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 (2P) 1P  3   0.73003  0.36569 -0.5773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2.923  462.923  468.587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38720" y="3809880"/>
            <a:ext cx="3905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=5.664 = 3/2*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7300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0.3656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.6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0.5773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.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Slater-integral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64.811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   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0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6.302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.628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Set the spin-orbit coupling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0480" y="7621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c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5.482    0.000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0.000  463.466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0.000    0.000  468.4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P  (2P) 3D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0.00000  1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1.00000  0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0.00000  0.00000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.000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3.466  465.482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8.402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64.811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3.776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0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6.302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.628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57200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nly the 3d spin-orbit coupling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d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6.426    1.635    2.3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1.635  462.522    1.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2.312    1.335  468.4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P  (2P) 3D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0.29681 -0.77568  0.55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-0.95074 -0.18539  0.248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 (2P) 1P  3   0.08946  0.60328  0.7925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1.886  465.019  470.4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480" y="7621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54000" y="426708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74160" y="3733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371600" y="927000"/>
            <a:ext cx="5587920" cy="5931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XAS experiment (Sr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Fermi Golden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295cff"/>
                </a:solidFill>
                <a:latin typeface="Arial"/>
              </a:rPr>
              <a:t>dipol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=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1460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Single electron (excitation)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295cff"/>
                </a:solidFill>
                <a:latin typeface="Arial"/>
              </a:rPr>
              <a:t>dipol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cor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38480"/>
            <a:ext cx="9144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95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Neglect &lt;vv’|1/r|vv’&gt; 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‘many body effects’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95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Neglect &lt;cv|1/r|cv&gt; 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‘multiplet effects’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-503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457200"/>
            <a:ext cx="9143280" cy="6010200"/>
            <a:chOff x="0" y="457200"/>
            <a:chExt cx="9143280" cy="6010200"/>
          </a:xfrm>
        </p:grpSpPr>
        <p:grpSp>
          <p:nvGrpSpPr>
            <p:cNvPr id="392" name=""/>
            <p:cNvGrpSpPr/>
            <p:nvPr/>
          </p:nvGrpSpPr>
          <p:grpSpPr>
            <a:xfrm>
              <a:off x="9720" y="461160"/>
              <a:ext cx="9121680" cy="6001560"/>
              <a:chOff x="9720" y="461160"/>
              <a:chExt cx="9121680" cy="60015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9720" y="461160"/>
                <a:ext cx="2442960" cy="545400"/>
                <a:chOff x="9720" y="461160"/>
                <a:chExt cx="2442960" cy="5454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56600" y="4611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ransi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720" y="4611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453400" y="461160"/>
                <a:ext cx="1756080" cy="545400"/>
                <a:chOff x="2453400" y="461160"/>
                <a:chExt cx="1756080" cy="5454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00280" y="4611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Grou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53400" y="4611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210560" y="461160"/>
                <a:ext cx="2227320" cy="545400"/>
                <a:chOff x="4210560" y="461160"/>
                <a:chExt cx="2227320" cy="545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356720" y="4611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ransi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210560" y="4611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438960" y="461160"/>
                <a:ext cx="2692440" cy="545400"/>
                <a:chOff x="6438960" y="461160"/>
                <a:chExt cx="2692440" cy="5454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585120" y="4611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erm Symbo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438960" y="4611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9720" y="1006560"/>
                <a:ext cx="2442960" cy="545400"/>
                <a:chOff x="9720" y="1006560"/>
                <a:chExt cx="2442960" cy="5454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56600" y="10065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720" y="10065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453400" y="1006560"/>
                <a:ext cx="1756080" cy="545400"/>
                <a:chOff x="2453400" y="1006560"/>
                <a:chExt cx="1756080" cy="5454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600280" y="10065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53400" y="10065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210560" y="1006560"/>
                <a:ext cx="2227320" cy="545400"/>
                <a:chOff x="4210560" y="1006560"/>
                <a:chExt cx="2227320" cy="5454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356720" y="10065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0560" y="10065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438960" y="1006560"/>
                <a:ext cx="2692440" cy="545400"/>
                <a:chOff x="6438960" y="1006560"/>
                <a:chExt cx="2692440" cy="5454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585120" y="10065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438960" y="10065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9720" y="1551960"/>
                <a:ext cx="2442960" cy="545760"/>
                <a:chOff x="9720" y="1551960"/>
                <a:chExt cx="2442960" cy="545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56600" y="1551960"/>
                  <a:ext cx="214848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9720" y="1551960"/>
                  <a:ext cx="244296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453400" y="1551960"/>
                <a:ext cx="1756080" cy="545760"/>
                <a:chOff x="2453400" y="1551960"/>
                <a:chExt cx="1756080" cy="545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600280" y="1551960"/>
                  <a:ext cx="14619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453400" y="1551960"/>
                  <a:ext cx="175608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4210560" y="1551960"/>
                <a:ext cx="2227320" cy="545760"/>
                <a:chOff x="4210560" y="1551960"/>
                <a:chExt cx="2227320" cy="545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356720" y="1551960"/>
                  <a:ext cx="193392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10560" y="1551960"/>
                  <a:ext cx="222732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438960" y="1551960"/>
                <a:ext cx="2692440" cy="545760"/>
                <a:chOff x="6438960" y="1551960"/>
                <a:chExt cx="2692440" cy="5457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585120" y="1551960"/>
                  <a:ext cx="239904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438960" y="1551960"/>
                  <a:ext cx="269244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9720" y="2098080"/>
                <a:ext cx="2442960" cy="545400"/>
                <a:chOff x="9720" y="2098080"/>
                <a:chExt cx="2442960" cy="545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56600" y="209808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720" y="209808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453400" y="2098080"/>
                <a:ext cx="1756080" cy="545400"/>
                <a:chOff x="2453400" y="2098080"/>
                <a:chExt cx="1756080" cy="5454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600280" y="209808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453400" y="209808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210560" y="2098080"/>
                <a:ext cx="2227320" cy="545400"/>
                <a:chOff x="4210560" y="2098080"/>
                <a:chExt cx="2227320" cy="545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356720" y="209808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210560" y="209808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438960" y="2098080"/>
                <a:ext cx="2692440" cy="545400"/>
                <a:chOff x="6438960" y="2098080"/>
                <a:chExt cx="2692440" cy="545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585120" y="209808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438960" y="209808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720" y="2643480"/>
                <a:ext cx="2442960" cy="545400"/>
                <a:chOff x="9720" y="2643480"/>
                <a:chExt cx="2442960" cy="5454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56600" y="264348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720" y="264348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453400" y="2643480"/>
                <a:ext cx="1756080" cy="545400"/>
                <a:chOff x="2453400" y="2643480"/>
                <a:chExt cx="1756080" cy="5454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600280" y="264348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453400" y="264348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210560" y="2643480"/>
                <a:ext cx="2227320" cy="545400"/>
                <a:chOff x="4210560" y="2643480"/>
                <a:chExt cx="2227320" cy="5454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56720" y="264348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210560" y="264348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438960" y="2643480"/>
                <a:ext cx="2692440" cy="545400"/>
                <a:chOff x="6438960" y="2643480"/>
                <a:chExt cx="2692440" cy="545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85120" y="264348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38960" y="264348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9720" y="3189240"/>
                <a:ext cx="2442960" cy="545400"/>
                <a:chOff x="9720" y="3189240"/>
                <a:chExt cx="2442960" cy="5454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56600" y="318924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9720" y="318924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453400" y="3189240"/>
                <a:ext cx="1756080" cy="545400"/>
                <a:chOff x="2453400" y="3189240"/>
                <a:chExt cx="1756080" cy="5454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00280" y="318924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453400" y="318924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210560" y="3189240"/>
                <a:ext cx="2227320" cy="545400"/>
                <a:chOff x="4210560" y="3189240"/>
                <a:chExt cx="2227320" cy="5454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356720" y="318924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210560" y="318924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438960" y="3189240"/>
                <a:ext cx="2692440" cy="545400"/>
                <a:chOff x="6438960" y="3189240"/>
                <a:chExt cx="2692440" cy="545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585120" y="318924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38960" y="318924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9720" y="3734640"/>
                <a:ext cx="2442960" cy="545400"/>
                <a:chOff x="9720" y="3734640"/>
                <a:chExt cx="2442960" cy="5454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56600" y="373464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9720" y="373464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453400" y="3734640"/>
                <a:ext cx="1756080" cy="545400"/>
                <a:chOff x="2453400" y="3734640"/>
                <a:chExt cx="1756080" cy="5454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600280" y="373464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53400" y="373464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210560" y="3734640"/>
                <a:ext cx="2227320" cy="545400"/>
                <a:chOff x="4210560" y="3734640"/>
                <a:chExt cx="2227320" cy="5454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356720" y="373464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10560" y="373464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6438960" y="3734640"/>
                <a:ext cx="2692440" cy="545400"/>
                <a:chOff x="6438960" y="3734640"/>
                <a:chExt cx="2692440" cy="5454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585120" y="373464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438960" y="373464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9720" y="4280400"/>
                <a:ext cx="2442960" cy="545400"/>
                <a:chOff x="9720" y="4280400"/>
                <a:chExt cx="2442960" cy="5454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156600" y="428040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9720" y="428040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453400" y="4280400"/>
                <a:ext cx="1756080" cy="545400"/>
                <a:chOff x="2453400" y="4280400"/>
                <a:chExt cx="1756080" cy="545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600280" y="428040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453400" y="428040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210560" y="4280400"/>
                <a:ext cx="2227320" cy="545400"/>
                <a:chOff x="4210560" y="4280400"/>
                <a:chExt cx="2227320" cy="5454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56720" y="428040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10560" y="428040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438960" y="4280400"/>
                <a:ext cx="2692440" cy="545400"/>
                <a:chOff x="6438960" y="4280400"/>
                <a:chExt cx="2692440" cy="5454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585120" y="428040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38960" y="428040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9720" y="4825800"/>
                <a:ext cx="2442960" cy="545400"/>
                <a:chOff x="9720" y="4825800"/>
                <a:chExt cx="2442960" cy="5454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6600" y="482580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7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9720" y="482580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2453400" y="4825800"/>
                <a:ext cx="1756080" cy="545400"/>
                <a:chOff x="2453400" y="4825800"/>
                <a:chExt cx="1756080" cy="5454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600280" y="482580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53400" y="482580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210560" y="4825800"/>
                <a:ext cx="2227320" cy="545400"/>
                <a:chOff x="4210560" y="4825800"/>
                <a:chExt cx="2227320" cy="5454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356720" y="482580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10560" y="482580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6438960" y="4825800"/>
                <a:ext cx="2692440" cy="545400"/>
                <a:chOff x="6438960" y="4825800"/>
                <a:chExt cx="2692440" cy="545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585120" y="482580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438960" y="482580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9720" y="5371560"/>
                <a:ext cx="2442960" cy="545400"/>
                <a:chOff x="9720" y="5371560"/>
                <a:chExt cx="2442960" cy="5454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6600" y="53715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9720" y="53715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453400" y="5371560"/>
                <a:ext cx="1756080" cy="545400"/>
                <a:chOff x="2453400" y="5371560"/>
                <a:chExt cx="1756080" cy="5454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00280" y="53715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53400" y="53715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210560" y="5371560"/>
                <a:ext cx="2227320" cy="545400"/>
                <a:chOff x="4210560" y="5371560"/>
                <a:chExt cx="2227320" cy="545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356720" y="53715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210560" y="53715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438960" y="5371560"/>
                <a:ext cx="2692440" cy="545400"/>
                <a:chOff x="6438960" y="5371560"/>
                <a:chExt cx="2692440" cy="545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585120" y="53715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38960" y="53715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9720" y="5916960"/>
                <a:ext cx="2442960" cy="545760"/>
                <a:chOff x="9720" y="5916960"/>
                <a:chExt cx="2442960" cy="5457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56600" y="5916960"/>
                  <a:ext cx="214848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0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0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9720" y="5916960"/>
                  <a:ext cx="244296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453400" y="5916960"/>
                <a:ext cx="1756080" cy="545760"/>
                <a:chOff x="2453400" y="5916960"/>
                <a:chExt cx="1756080" cy="5457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600280" y="5916960"/>
                  <a:ext cx="14619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53400" y="5916960"/>
                  <a:ext cx="175608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4210560" y="5916960"/>
                <a:ext cx="2227320" cy="545760"/>
                <a:chOff x="4210560" y="5916960"/>
                <a:chExt cx="2227320" cy="5457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356720" y="5916960"/>
                  <a:ext cx="193392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210560" y="5916960"/>
                  <a:ext cx="222732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438960" y="5916960"/>
                <a:ext cx="2692440" cy="545760"/>
                <a:chOff x="6438960" y="5916960"/>
                <a:chExt cx="2692440" cy="5457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585120" y="5916960"/>
                  <a:ext cx="239904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38960" y="5916960"/>
                  <a:ext cx="269244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"/>
            <p:cNvSpPr/>
            <p:nvPr/>
          </p:nvSpPr>
          <p:spPr>
            <a:xfrm>
              <a:off x="0" y="457200"/>
              <a:ext cx="9143280" cy="60102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erm Symbols and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762120" y="1143000"/>
            <a:ext cx="99061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lowed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-762120" y="114300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NiO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,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,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,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4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lowed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,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erm Symbols and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tomic multiplet calculations for Ni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762120"/>
            <a:ext cx="9144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a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l initial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nd final state interactions set to zer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b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only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the 2p spin-orbit coupling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(L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p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s in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c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L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p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and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the Slater-Condon parameters are in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d.rcg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so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3d spin-orbit coupling is added in the initial state. This yields the full Ni</a:t>
            </a:r>
            <a:r>
              <a:rPr b="0" lang="en-GB" sz="24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calculation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334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48680" y="16765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600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43200" y="2133360"/>
            <a:ext cx="0" cy="144756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2514600"/>
            <a:ext cx="1371600" cy="121932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14920" y="3809880"/>
            <a:ext cx="18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: &gt;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238880" y="2286000"/>
            <a:ext cx="0" cy="144792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28600" y="838080"/>
            <a:ext cx="17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: &gt;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93356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tomic multipl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3356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09480" y="380880"/>
          <a:ext cx="8153640" cy="597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15364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94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42000" y="765000"/>
            <a:ext cx="5064840" cy="1245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selection ru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= ±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2160" y="22852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5800" y="33822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05520" y="449568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A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ε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25120" y="5997600"/>
            <a:ext cx="474048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0, 5715 (1989) / 48, 2074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375080" cy="632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73640" y="533520"/>
            <a:ext cx="4770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11760" y="2030400"/>
            <a:ext cx="197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rut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61120" y="4724280"/>
            <a:ext cx="24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anat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200400"/>
            <a:ext cx="4648320" cy="2653560"/>
          </a:xfrm>
          <a:prstGeom prst="rect">
            <a:avLst/>
          </a:prstGeom>
          <a:solidFill>
            <a:srgbClr val="cbcbcb"/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ement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re hol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t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bod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86720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3920" y="838080"/>
            <a:ext cx="4419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AS probes empt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ole pulls down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nal State R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tral shape of XAS looks like final state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nitial State R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nsity of XAS is given by the initial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23120" y="548640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1, 11899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1320" y="5410080"/>
            <a:ext cx="4357080" cy="108108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ole selection ru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= ±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 specific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specific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3480" y="838080"/>
            <a:ext cx="90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iSi</a:t>
            </a:r>
            <a:r>
              <a:rPr b="0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AS: core hole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00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19320"/>
            <a:ext cx="0" cy="50292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105520"/>
            <a:ext cx="114300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95880"/>
            <a:ext cx="114300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0199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0199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9440" y="4951440"/>
            <a:ext cx="76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029200"/>
            <a:ext cx="152640" cy="152280"/>
          </a:xfrm>
          <a:prstGeom prst="ellipse">
            <a:avLst/>
          </a:prstGeom>
          <a:solidFill>
            <a:srgbClr val="effff7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121932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7f7"/>
                </a:solidFill>
                <a:latin typeface="Arial"/>
              </a:rPr>
              <a:t>Multiple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rong overlap of 2p-core and 3d-valence wa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article model breaks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use atomic-like configu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7f7"/>
                </a:solidFill>
                <a:latin typeface="Arial"/>
              </a:rPr>
              <a:t>Charge Trans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re hole potential causes reordering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981080"/>
            <a:ext cx="190476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50760">
            <a:solidFill>
              <a:srgbClr val="e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2360" y="144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209680"/>
            <a:ext cx="228600" cy="2590920"/>
          </a:xfrm>
          <a:prstGeom prst="upDownArrow">
            <a:avLst>
              <a:gd name="adj1" fmla="val 50000"/>
              <a:gd name="adj2" fmla="val 225627"/>
            </a:avLst>
          </a:prstGeom>
          <a:solidFill>
            <a:srgbClr val="00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90720" y="2133720"/>
            <a:ext cx="685800" cy="2743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8120"/>
            <a:ext cx="1676520" cy="825480"/>
          </a:xfrm>
          <a:prstGeom prst="rect">
            <a:avLst/>
          </a:prstGeom>
          <a:solidFill>
            <a:srgbClr val="cbcbcb"/>
          </a:solidFill>
          <a:ln cap="sq"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&lt;pd|1/r|pd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~ 10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AS: multiplets and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16:01:50Z</dcterms:modified>
  <cp:revision>270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